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14F1-8479-450F-86B8-411927E4149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EF59-9937-4A7A-BA37-A03BD4C01174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0F85-4D03-4744-B102-EC3190FEDA62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AFD7-A0B3-42A3-A48F-2C498AA34876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75BA-254A-4472-B0D4-5583640FDD59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FF24-5EE0-44E4-86BB-9AB1831A8C3D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F034-EAFF-463B-876E-D503C5BD459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0295-B14A-4E6C-AFA5-271EE7E67FC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910D-7A30-4F99-B046-F6EA2C867355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2B68-45E6-4242-816E-9B8DC30BCE3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8615-56F5-478E-ABBD-5026A9AEDF3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BDA6-EE45-4119-8DA1-ED71C59D616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19AE-1D62-4925-8B0A-2CF6162F2D3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B4B2-254B-4D40-A4B4-69F068CAA9E2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065B-7BBD-440B-B7FF-F2331B006AD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2B1B-E279-4CD0-AB65-84E22A6E59B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E39C-9004-4B3B-B55F-180238EB2B9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88EB-79CB-4957-B9BE-6859D2DB9B9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850E-F97E-4E87-BD6C-FEE12E76F33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881C-AE00-44E2-9ABF-B9E7CD1D3BF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669B-1194-433F-9642-123665565B25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BFA4-4B86-4064-8A8E-63F855453105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B75B-2D28-472F-809A-DFB53A67C8B0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6FFC-1F97-4616-B7C0-E29AEB7ED42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0661-610F-436F-888C-512118A1CCC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C1AE-D135-49A6-9C08-C98407F72826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32ED-E923-4388-81F9-3D786AC5BC80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B6C9-7D52-4219-BC77-B7C7593DB9F9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F941-836C-4A15-B224-2B437FE3BBC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7EB0-068F-4BD1-8CD0-88D735CA5D5B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A7D9-9ACC-49FD-9F14-C493EA0AF6B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F7FF-FF72-47D1-9ACF-364F021F99DB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87F2-D0FA-4932-9764-8DD0C7195336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3967-42B3-45DD-BEF2-C40012CF2BE5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F22F-9D79-43C5-BEBD-E25116591FCB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2916-F16A-43BB-8CBF-F0D662F6071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02CA-C540-489F-85A2-9A70B0A4D29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3939-CFD7-48BC-AE96-A6E42F79A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D271-BF7E-420A-AB0E-4B3D6FCAB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065D-C5FA-422F-880F-6CCB930A5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8CBF-8282-45E9-ABD4-8419E5C98D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EB5B-52C4-4D09-B726-A1E19C5760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013D-FB6D-4604-B703-3BD3A1B14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864A-7601-4DDE-97DD-D4E7C7A82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54B8-C244-4ED4-A2F4-5A4589076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E96F-1351-41F1-87DF-39AA9AAE0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88B0-2F96-497F-9B7F-5C4058EFC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04E7-1A5D-4246-A405-D23AAB308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D78C-6F04-4F98-AD17-72C160392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029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826524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00BD-9A8D-4FAE-AA0B-BE6F3BC951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4172040" y="5870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533520" y="3451320"/>
            <a:ext cx="274464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lliam P. Cunningham</a:t>
            </a:r>
            <a:br>
              <a:rPr sz="2000"/>
            </a:b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University of Minnesota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y Ann Cunningham</a:t>
            </a:r>
            <a:br>
              <a:rPr sz="2400"/>
            </a:b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Vassar College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6521400"/>
            <a:ext cx="9144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544212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See PowerPoint Image Slides for all figures and tables pre-inserted into PowerPoint without notes.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1295280"/>
            <a:ext cx="44956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21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cture Outlin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19720" y="905040"/>
            <a:ext cx="4486320" cy="5419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447920" cy="719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Chinese Woman Extracts Valuabl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tals From E-Was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889080" cy="528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ste Disposal Metho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nitary Landf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use compacted and covered every day with a layer of di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t takes up as much as 20% of landfill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1994, all operating landfills in the U.S. have been required to control hazardous substances with lining and drainage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nitary Landfil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5" name="Picture 5" descr="_x0012_cun51381_21_07.jpg                                             0030F4DD_x000c_Macintosh HD                   BFE0EB86:"/>
          <p:cNvPicPr/>
          <p:nvPr/>
        </p:nvPicPr>
        <p:blipFill>
          <a:blip r:embed="rId1"/>
          <a:stretch/>
        </p:blipFill>
        <p:spPr>
          <a:xfrm>
            <a:off x="870120" y="1139760"/>
            <a:ext cx="740376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ndfil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ly, landfills have been a convenient, inexpensive waste-disposal op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ing land prices and shipping fees, and demanding construction and maintenance requirements, are increasing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itable landfill sites are become sca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200 - 1,500 landfills have clo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ies are rejecting new landf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trend in landfills is methane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ste Disposal Metho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ineration (also called Energy Recove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ergy Recove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heat derived from incinerated refuse is a useful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ning garbage is used to create steam used for heating buildings or generating electri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ly, there are well over 1,000 such plants that reduce garbage while generating needed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inerator Typ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use-Derived Fu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refuse is sorted to remove recyclable and unburnable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energy content than raw tr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ss Bur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everything smaller than major furniture and appliances loaded into furn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s air pollu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disposal volume by 80-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ual ash usually contains toxic 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ss-Burn Incinerato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8" descr="_x0012_cun51381_21_09.jpg                                             0030F4DD_x000c_Macintosh HD                   BFE0EB86:"/>
          <p:cNvPicPr/>
          <p:nvPr/>
        </p:nvPicPr>
        <p:blipFill>
          <a:blip r:embed="rId1"/>
          <a:stretch/>
        </p:blipFill>
        <p:spPr>
          <a:xfrm>
            <a:off x="201600" y="1149480"/>
            <a:ext cx="8739360" cy="4559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inerator Cost and Safe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construction costs are usually between $100 and $300 million for a typical municipal fac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pping fees (cost to dump 1 ton) are often much higher than tipping fees at landf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has found alarmingly high levels of dioxins, furan, lead and cadmium in as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way to control this is to remove heavy metals (batteries) and plastics before bu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rinking the Waste Strea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ycling is the reprocessing of discarded materials into new, useful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, about two-thirds of all aluminum cans are recyc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 tires are turned into road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papers become ins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ycling copper is so lucrative that thieves are stealing copper pipes and wires causing gas leaks and explo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cycl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es money, raw materials, and land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s $35/ton as opposed to $80/ton to  landf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s individual respon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pressure on disposa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pan recycles about half of all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s demand for raw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energy consumption and air pol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lid, Toxic, and Hazardous Was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8" descr="_x0011_cun51381_co21.jpg                                              0030F4F0_x000c_Macintosh HD                   BFE0EB86:"/>
          <p:cNvPicPr/>
          <p:nvPr/>
        </p:nvPicPr>
        <p:blipFill>
          <a:blip r:embed="rId1"/>
          <a:stretch/>
        </p:blipFill>
        <p:spPr>
          <a:xfrm>
            <a:off x="453960" y="1371600"/>
            <a:ext cx="8236080" cy="4981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cycl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policies tend to favor use of new raw materials because energy, raw materials, and water are often sold below real cost to create jobs and stimulate the econom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, local and national statutes requiring government agencies to purchase a minimum amount of re-cycled material have hel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help by buying recycled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.S. Recycling Ra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3" name="Picture 5" descr="_x0012_cun51381_21_11.jpg                                             0030F4DD_x000c_Macintosh HD                   BFE0EB86:"/>
          <p:cNvPicPr/>
          <p:nvPr/>
        </p:nvPicPr>
        <p:blipFill>
          <a:blip r:embed="rId1"/>
          <a:stretch/>
        </p:blipFill>
        <p:spPr>
          <a:xfrm>
            <a:off x="874800" y="987480"/>
            <a:ext cx="7394400" cy="5413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posal of Municipal Was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912960"/>
            <a:ext cx="8305920" cy="5138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ercial Scale Recycling and Compost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st yard waste at the municipa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rd waste makes up 12% of waste st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company uses yard waste to make metha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on waste can be recyc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500,000 tons of debris from World Trade Center was recyc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rmal conversion proc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oks manure, paper-processing waste and plastics into oil, gasoline and natural gas.  Began in 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manufacturing is Necessary for E-Was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anufacturing is the disassembly and recycling of obsolete appliances and electron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fice machines are used 3 years; most TVs used 5 years; 300 million computers await dispo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% of heavy metal contamination comes from e-waste, and batteries make up another 10% to 2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Europe, manufacturers have “cradle to grave” responsibility for their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use is More Efficient Than Recycl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 parts, brass fittings, woodwork, bricks, are routinely reused and can bring a high pr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ass and plastic bottles are washed and refil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veloping countries, poor people make a living by scavenging, sorting and reprocessing scraps from dum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rinking the Waste Strea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ducing Less Wa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 packaging of consumer products is one of our greatest sources of unnecessary was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r, plastic, glass, and metal packaging material make up 50% of domestic tras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unnecessary packa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use of photodegradable and biodegradable pla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laws in European Union.  By 2020, 50% of municipal solid waste and 70% of construction waste will be reused or recyc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zardous and Toxic Was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estimates U.S. industries generate 265 million metric tons of officially classified hazardous wastes annua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least 40 million metric tons of toxic and hazardous wastes are released into the environment each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_x0012_cun51381_21_17.jpg                                             0030F4F0_x000c_Macintosh HD                   BFE0EB86:"/>
          <p:cNvPicPr/>
          <p:nvPr/>
        </p:nvPicPr>
        <p:blipFill>
          <a:blip r:embed="rId1"/>
          <a:stretch/>
        </p:blipFill>
        <p:spPr>
          <a:xfrm>
            <a:off x="870120" y="641520"/>
            <a:ext cx="7403760" cy="5576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.S. Hazardous Waste Produc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47920" y="1347840"/>
            <a:ext cx="6248160" cy="41608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d Wa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te Disposal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ing the Waste 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zardous and Toxic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Legi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C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C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zardous Was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ly, hazardous waste is any discarded liquid or solid that contains substances known to 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al to humans or laboratory animals in low d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xic, carcinogenic, mutagenic, or teratogenic to humans or other life-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gnitable with a flash point less than 6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o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sive or highly rea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zardous Waste Dispos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ederal Legi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ource Conservation and Recovery Act (RCRA) - 19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program requiring rigorous testing and management of toxic and hazardous sub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adle to grave” ac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deral Legisl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rehensive Environmental Response, Compensation and Liability Act (CERC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ified by Superfund Amendments and Reauthorization Act (SAR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med at rapid containment, cleanup, or remediation of abandoned toxic waste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es a community “right to kno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xic Release Invento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Requires 20,000 manufacturing facilities to report annually on releases of more than 300 toxic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cking Cradle to Grav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" name="Picture 5" descr="_x0012_cun51381_21_19.jpg                                             0030F4DD_x000c_Macintosh HD                   BFE0EB86:"/>
          <p:cNvPicPr/>
          <p:nvPr/>
        </p:nvPicPr>
        <p:blipFill>
          <a:blip r:embed="rId1"/>
          <a:stretch/>
        </p:blipFill>
        <p:spPr>
          <a:xfrm>
            <a:off x="490680" y="1011240"/>
            <a:ext cx="8162640" cy="48355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ERCL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 does not have to prove anyone violated a law or what role they played in contaminating a superfund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ability under CERCLA is “strict, joint, and several”, meaning anyone associated with a site can be held responsible for the entire clean-up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CLA amended in 1995 to allow containment if treatment is unavailable or too cos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perfund Si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estimates 36,000 seriously contaminated sites in the U.S.  General Accounting Office says 400,000 si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2007, 1,680 sites had been placed on the National Priority List for cleanup with Superfund financ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fund is a revolving pool designe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immediate response to emergency situations posing imminent haz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abandoned or inactive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perfund Si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costs for hazardous waste cleanup in the U.S. are estimated between $370 billion and $1.7 trillion of taxpayer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sites are old industrial facilities and chemical manufacturing plants around the Great Lakes and Gulf Coast.  Mining areas and old dumps are also prime sources of toxic was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ies of Superfund sites reveal minorities tend to be over-represented in these neighborho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p of Hazardous Waste Si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4" name="Picture 8" descr="_x0012_cun51381_21_21.jpg                                             0030F4DD_x000c_Macintosh HD                   BFE0EB86:"/>
          <p:cNvPicPr/>
          <p:nvPr/>
        </p:nvPicPr>
        <p:blipFill>
          <a:blip r:embed="rId1"/>
          <a:stretch/>
        </p:blipFill>
        <p:spPr>
          <a:xfrm>
            <a:off x="874800" y="1125360"/>
            <a:ext cx="7394400" cy="5123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rownfield Liabilities and Opportunit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ownfiel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contaminated properties that have been abandoned or are not being used up to potential because of pollution conc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 to one-third of all commercial industrial sites in urban core of many big cities fall into this categ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ny cases, property owners complain that unreasonably high purity levels are demanded in remed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ing liability insurance against future cleanup costs is beneficial in reusing brownfiel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zardous Waste Management Op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duce Less Wa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creating wastes in the first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ycle and Reuse - what is waste to one industry is raw product for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vert to Less Hazardous Sub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Treatment  (Isol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n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Processing (Transformation to non-toxic substanc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remediation (Microorganisms detoxif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lid Was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rding to EPA, U.S. produces 11 billion tons of solid waste annua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half is agricultural wa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one-third is mining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 Waste - 400 million metric 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zardous/Toxic - 60 million metric 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nicipal Waste - 200 million metric 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-thirds of a ton per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aste Stream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thing we throw awa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zardous Waste Management Op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ore Perman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trievable Stor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in containers in salt mines or cav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inspected and periodically retrieved if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ure Landf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n, complex landfills with multiple liners and other impervious layers, covered by a cap.  Leachate is processed and monitoring sees that no toxins esca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xic Waste Secure Landfil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2" name="Picture 5" descr="_x0012_cun51381_21_23.jpg                                             0030F4DD_x000c_Macintosh HD                   BFE0EB86:"/>
          <p:cNvPicPr/>
          <p:nvPr/>
        </p:nvPicPr>
        <p:blipFill>
          <a:blip r:embed="rId1"/>
          <a:stretch/>
        </p:blipFill>
        <p:spPr>
          <a:xfrm>
            <a:off x="870120" y="917640"/>
            <a:ext cx="7403760" cy="5711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xic Waste Stor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ation of hazardous wastes to disposal sites risks acc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particular concern in densely packed urban corrid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ther worry is who will bear financial responsibility for abandoned waste si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ay need new institutions for perpetual care of toxic wastes and nuclear was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.S. Domestic Was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" name="Picture 9" descr="_x0012_cun51381_21_03.jpg                                             0030F4DD_x000c_Macintosh HD                   BFE0EB86:"/>
          <p:cNvPicPr/>
          <p:nvPr/>
        </p:nvPicPr>
        <p:blipFill>
          <a:blip r:embed="rId1"/>
          <a:stretch/>
        </p:blipFill>
        <p:spPr>
          <a:xfrm>
            <a:off x="2424240" y="1066680"/>
            <a:ext cx="4295520" cy="5562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ste Disposal Metho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pen Dumps Release Hazardous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, unregulated dumps are still the predominant method of waste disposal in developing cou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developed countries forbid open dum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d 200 million liters of motor oil are poured into the sewers or soak into the ground each year in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times volume of Exxon Valdez oil sp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ste Disposal Metho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ean dumping is nearly uncontrol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year 20 million tons of plastic debris are dumped at sea where they are eaten by wildlife or wash up on beaches, even in remote reg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eat Pacific Garbage Pat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floating garbage is now collecting in the center of the North Pacific Gyre , a circular collection of ocean curr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North Pacific alone, 50,000 northern fur seals are entangled in refuse and in the       1,000 km of fishing nets lost each year.  They drown or starve to dea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stics In the Stomach of Albatross Chi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1092240"/>
            <a:ext cx="6324480" cy="5102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ste Disposal Metho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 Often Export Wastes To Other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ized nations have agreed to stop shipping hazardous and toxic waste to less-developed countries, but it still contin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80% of electronic waste (e-waste) is shipped abroad, mostly to Asia and Africa where it is broken apart to salvage met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maining material is thrown into open dumps causing soil and water contamin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ch of this e-waste are outdated televisions, computers, game consoles and cell ph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22:44:40Z</dcterms:created>
  <dc:creator>CCSN</dc:creator>
  <dc:description/>
  <dc:language>en-US</dc:language>
  <cp:lastModifiedBy>yeswini.d</cp:lastModifiedBy>
  <dcterms:modified xsi:type="dcterms:W3CDTF">2009-08-24T05:45:17Z</dcterms:modified>
  <cp:revision>118</cp:revision>
  <dc:subject/>
  <dc:title>Understanding Our Environment</dc:title>
</cp:coreProperties>
</file>